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B70-7400-4044-A3F5-6C2ED3C1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43E-258F-497B-9073-690425FC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194-5B07-485C-A5DB-724D5C65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150-6953-443F-B14F-BFD613BC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61CE-D8EA-44BF-A180-44FB6536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FAF-EAE8-4AC1-9714-411DCF76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925-4DF9-498E-9A80-290DEC46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D69-327E-4ED4-BC3E-4CAB931B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023-B4D8-4FC7-94C5-CAE0F6B4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51E-AE02-41E9-8141-977672C0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60C-97E0-4B60-A3FA-2EDA9DD5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ABB-9636-499C-8A95-325F3AE9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DE96-B71C-4DDE-99D2-56CA5448C28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566" r="0" b="14803"/>
          <a:stretch/>
        </p:blipFill>
        <p:spPr>
          <a:xfrm>
            <a:off x="0" y="3068640"/>
            <a:ext cx="4427640" cy="3816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0" b="29050"/>
          <a:stretch/>
        </p:blipFill>
        <p:spPr>
          <a:xfrm>
            <a:off x="0" y="0"/>
            <a:ext cx="4427640" cy="314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427640" y="6308640"/>
            <a:ext cx="462096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By: Amy Chen, Bridget Panych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26028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Genetically Modified Plants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Sou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www.ornl.gov/sci/techresources/Human_Genome/elsi/gmfood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www.greenfacts.org/en/gmo/2-genetically-modified-crops/1-agricultural-biotechnology.htm#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recipes.howstuffworks.com/question148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www.trendhunter.com/trends/blue-rose-is-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宋体"/>
              </a:rPr>
              <a:t>Whitman, Deborah. Genetically Modified Foods: Harmful or Helpful. April 2000. http://www.csa.com/discoveryguides/gmfood/overview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Genetically Modified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Makes changes to the hereditary material of a living organis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Biotechnologies are used to develop plants resistant to pests, diseases, drought, heat, or cold, and improve the nutritional content of plant food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683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 2006, a total of 252 million acres of transgenic crops were planted in 22 countries by 10.3 million far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erbicide- and insect-resistant soybeans, corn, and co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weet potato resistant to a virus that could decimate most of the African harv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ice with increased iron and vitamins that may alleviate chronic malnutrition in Asian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ariety of plants able to survive weather extre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176720" cy="3054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0" r="0" b="10810"/>
          <a:stretch/>
        </p:blipFill>
        <p:spPr>
          <a:xfrm>
            <a:off x="5076720" y="3429000"/>
            <a:ext cx="31719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Examples of GM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52671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oundup, made by Monsanto (agriculture company)- a herbicide that kills any plant that it tou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eated “Roundup Ready”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op ignores Roundup, but weeds are 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oundup Ready seeds reduce production costs and increase yield, so food becomes les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ientists have inserted genes that produce a natural insecticide into cor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40360" y="3860640"/>
            <a:ext cx="2664000" cy="177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40360" y="1790640"/>
            <a:ext cx="2592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Genetically Modified Flow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752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rebuchet MS"/>
              </a:rPr>
              <a:t>Blue R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rebuchet MS"/>
              </a:rPr>
              <a:t>A Japanese company, Sun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rebuchet MS"/>
              </a:rPr>
              <a:t>Delphinidin (produces blue pig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rebuchet MS"/>
              </a:rPr>
              <a:t>Growing the rose experimentally in Australia and the United States to get approval for s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33670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000000"/>
                </a:solidFill>
                <a:latin typeface="Agency FB"/>
                <a:ea typeface="宋体"/>
              </a:rPr>
              <a:t>Techn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7280" y="1483920"/>
            <a:ext cx="6491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Restriction enzymes- “Chemical scissors” used to cut DNA into fragments at specific locations. Restriction enzymes are found in bacteria and they are used to eliminate invading D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Ligase enzymes- These are used to attach sticky ends that are created by the restriction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Gene vector- Plasmid is an example of a gene vector. It is used to insert a foreign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Donor gene- A ggene from another organism that is inserted into a gene vector. This will result in a change in the genetic code</a:t>
            </a:r>
            <a:r>
              <a:rPr b="0" lang="en-CA" sz="1600" spc="-1" strike="noStrike">
                <a:solidFill>
                  <a:srgbClr val="000000"/>
                </a:solidFill>
                <a:latin typeface="Trebuchet MS"/>
                <a:ea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24000" y="976320"/>
          <a:ext cx="11332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76320"/>
                    <a:ext cx="1133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771640" y="1341360"/>
          <a:ext cx="174312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341360"/>
                    <a:ext cx="174312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012000" y="1407960"/>
          <a:ext cx="1495440" cy="149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407960"/>
                    <a:ext cx="149544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020000" y="3573360"/>
          <a:ext cx="1771560" cy="29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3573360"/>
                    <a:ext cx="17715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995640" y="4000680"/>
          <a:ext cx="1495440" cy="191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95640" y="4000680"/>
                    <a:ext cx="14954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0" y="2997360"/>
          <a:ext cx="2682720" cy="3676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2997360"/>
                    <a:ext cx="2682720" cy="36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403280" y="1768320"/>
          <a:ext cx="1584360" cy="690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1768320"/>
                    <a:ext cx="158436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284720" y="1697040"/>
          <a:ext cx="1584360" cy="690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84720" y="1697040"/>
                    <a:ext cx="15843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236000" y="1841400"/>
          <a:ext cx="1736640" cy="1685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36000" y="1841400"/>
                    <a:ext cx="173664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580000" y="4508640"/>
          <a:ext cx="1657440" cy="96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80000" y="4508640"/>
                    <a:ext cx="16574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21"/>
          <a:stretch/>
        </p:blipFill>
        <p:spPr>
          <a:xfrm>
            <a:off x="2627280" y="4361040"/>
            <a:ext cx="1295280" cy="75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828720" y="189000"/>
            <a:ext cx="748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Diagram of Proces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2637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Bacte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1197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Plas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213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256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Plas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00720" y="119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onor 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716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ransgenic 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08720" y="3500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Recombinant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3860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6000" spc="-1" strike="noStrike">
                <a:solidFill>
                  <a:srgbClr val="000000"/>
                </a:solidFill>
                <a:latin typeface="Agency FB"/>
              </a:rPr>
              <a:t>Benefits</a:t>
            </a:r>
            <a:r>
              <a:rPr b="1" lang="zh-TW" sz="6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Trebuchet MS"/>
              </a:rPr>
              <a:t>Cr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Trebuchet MS"/>
                <a:ea typeface="宋体"/>
              </a:rPr>
              <a:t>Preventing malnutrition/disease –in underdeveloped countries, malnutrition and disease is common. Plants can be genetically modified to contain vitamins and edible vaccines. (ex: Golden Ric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Trebuchet MS"/>
                <a:ea typeface="宋体"/>
              </a:rPr>
              <a:t>Eliminating Pesticides –Genetically modified plants can contain genes that cause the plant to need less pesticide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Trebuchet MS"/>
              </a:rPr>
              <a:t>Environmen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Trebuchet MS"/>
              </a:rPr>
              <a:t>"Friendly" herbicides and insecticid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Trebuchet MS"/>
              </a:rPr>
              <a:t>Conservation of soil, water, and energ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Trebuchet MS"/>
              </a:rPr>
              <a:t>Better natural waste managemen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Trebuchet MS"/>
              </a:rPr>
              <a:t>Societ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Trebuchet MS"/>
              </a:rPr>
              <a:t>Increased food security for growing popula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Risks and Controvers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ebuchet MS"/>
              </a:rPr>
              <a:t>Safety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Human health impact: allergens, transfer of antibiotic resistance markers, unknown effe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ebuchet MS"/>
              </a:rPr>
              <a:t>Ethics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Violation of nature’s organis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ampering with nature by mixing genes among speci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Objections to consuming animal genes in pla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4:52:09Z</dcterms:created>
  <dc:creator>ASUS</dc:creator>
  <dc:description/>
  <dc:language>en-US</dc:language>
  <cp:lastModifiedBy>Janet</cp:lastModifiedBy>
  <dcterms:modified xsi:type="dcterms:W3CDTF">2008-03-05T14:01:42Z</dcterms:modified>
  <cp:revision>39</cp:revision>
  <dc:subject/>
  <dc:title>Genetically Modified Plants</dc:title>
</cp:coreProperties>
</file>